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72C4B-DD15-4F1C-AF11-88C1820F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DA138-55A4-4673-9747-1AD590E7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CB96F-3C91-4AF8-B79A-76C8FCF7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1478A-9FDB-46D0-8B42-B23E8C95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CD08-B832-43CC-98FA-C5027A89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9DE5-E48F-4321-9C8A-5C6A04F0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DB40-9032-44C7-A7A3-88EE473B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0476-23B6-4039-BCDF-81A02D3E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9CD6-E430-4B29-928A-42DFD99D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CA4D-544A-4A07-98E1-A0E4BA4A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1236-D400-4B88-927F-70F93A3F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6046A-8A98-4BC1-ADB3-CA301648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E074-3FCE-439A-A66B-3C238549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42FC-46CA-4ED0-BB20-4E2E0E1A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C275-DC68-4101-9E76-F07A67F9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60F3-2203-4A01-A933-52FF744D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3382-66CA-492E-B272-DCD7811C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3E9C8-EF65-471A-9369-8BB22674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3ADB4-6BAA-4918-97A4-C01C4E22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01E39-D124-4D60-9101-397E2F02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33AE1-DCA2-4A47-9C63-35313F7A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E9462-5CFF-4217-9858-6674B80E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41622-1E45-4B36-8D11-3D322A46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D1DE3-76AA-4B4B-A4B6-045F3B12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0214-2038-43B9-A59B-67CD679CAE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D402-DE07-498B-A768-3FF5CC8FB6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Coordinate Creations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rm 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is the origin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scribe what quadrants ar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ich quadrant would (5,6) be in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quadrant would (-4, -8) be in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is an intercep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do we write a y intercept of 2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do you write a x intercept of 6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Your Ho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ive your written coordinates to a partn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nd the coordinates on the provided grid paper to recreate their draw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you did not do this homework, find the coordinates that I will provide you wit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ttleship!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 your worksheet, fill in where your ships are on the left coordinate plane (if it is 4 points long, that means it takes up 4 square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will play with a partner.  Do not let them see your board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ick coordinates for them and see if you hit or miss their ship.  If you hit, mark an x on that coordinate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object is to sink their ships before they can sink all of yours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14:30:27Z</dcterms:created>
  <dc:creator>Student</dc:creator>
  <dc:description/>
  <dc:language>en-US</dc:language>
  <cp:lastModifiedBy>Student</cp:lastModifiedBy>
  <dcterms:modified xsi:type="dcterms:W3CDTF">2009-07-24T14:35:33Z</dcterms:modified>
  <cp:revision>1</cp:revision>
  <dc:subject/>
  <dc:title>Coordinate Creations</dc:title>
</cp:coreProperties>
</file>